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11.jpeg" ContentType="image/jpeg"/>
  <Override PartName="/ppt/media/image10.pct" ContentType="image/x-pict"/>
  <Override PartName="/ppt/media/image21.jpeg" ContentType="image/jpeg"/>
  <Override PartName="/ppt/media/image7.pct" ContentType="image/x-pict"/>
  <Override PartName="/ppt/media/image27.jpeg" ContentType="image/jpeg"/>
  <Override PartName="/ppt/media/image8.pct" ContentType="image/x-pict"/>
  <Override PartName="/ppt/media/image33.jpeg" ContentType="image/jpeg"/>
  <Override PartName="/ppt/media/image19.jpeg" ContentType="image/jpeg"/>
  <Override PartName="/ppt/media/image3.pct" ContentType="image/x-pict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pct" ContentType="image/x-pict"/>
  <Override PartName="/ppt/media/image2.jpeg" ContentType="image/jpeg"/>
  <Override PartName="/ppt/media/image34.pct" ContentType="image/x-pict"/>
  <Override PartName="/ppt/media/image4.pct" ContentType="image/x-pict"/>
  <Override PartName="/ppt/media/image12.jpeg" ContentType="image/jpeg"/>
  <Override PartName="/ppt/media/image1.jpeg" ContentType="image/jpeg"/>
  <Override PartName="/ppt/media/image22.jpeg" ContentType="image/jpeg"/>
  <Override PartName="/ppt/media/image6.pct" ContentType="image/x-pict"/>
  <Override PartName="/ppt/media/image14.jpeg" ContentType="image/jpeg"/>
  <Override PartName="/ppt/media/image15.gif" ContentType="image/gif"/>
  <Override PartName="/ppt/media/image28.jpeg" ContentType="image/jpeg"/>
  <Override PartName="/ppt/media/image16.jpeg" ContentType="image/jpeg"/>
  <Override PartName="/ppt/media/image9.pct" ContentType="image/x-pict"/>
  <Override PartName="/ppt/media/image17.jpeg" ContentType="image/jpeg"/>
  <Override PartName="/ppt/media/image18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DCB3-DB4C-46B7-90F0-35DE82BB6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Listen to a three minute selection of Beethoven’s Fifth Symph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611-252D-44EE-8246-7A28F652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4BB-4E53-4170-864D-2880B1D0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C38E-66DE-4995-857E-C3113400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590-0A0C-4451-B23F-99EA9AA0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7A95-6B31-485A-8399-9AB8F96E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F66C-0A6B-4E9D-9E22-1589AB4D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C2E7-943C-4C51-AB6C-2926657F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308C-20BA-43FE-B5E8-55571130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B41A-5873-4858-94F0-7FFF3014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2C8A-538E-4677-AAB9-F495C6D0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AC18-80E2-4A5E-8DA5-303CE44B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976-2445-4169-A49A-F62DAD70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7F2E-C434-463A-9A76-F2ED593D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735E-31A0-47F0-8204-F3A5227E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2089-E687-4C90-8013-C4C43D95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CB5C-F8C4-48B0-934F-EA6EDF15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8AC4-1E1B-4870-924B-E342B1DB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01848-E515-44CB-9F74-890AB33E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25E31-4F4D-40B4-B520-151FBE2F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4412A-948A-45C6-B812-FE48BC40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33B37-96A1-4103-BD5E-CEC9F679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D2B04-166A-4FA8-A519-7485629D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D2C-7BB3-4AE0-AEB8-FD0A2B05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A04B1-11F2-4871-8CAA-A39C0586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A431C-6E95-4792-B0B1-92941639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3D25C-D4BB-4492-ABDE-35715520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35348-2504-4D5E-92DD-563931E4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D67FB-0735-4792-8941-12F65B2A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D6E38-DCD6-453D-B685-28DDE8F4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290A1-50ED-4F59-A523-B1A14AB9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C5DB6-A227-4810-8796-0926B6C9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F7548-691A-42D6-8662-DDF84764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811A1-4330-4549-BAB2-30DD046B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4C2-C2B8-4886-88C6-32163DBA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70944-1050-4528-8DA2-02C575C1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2905C-0225-4FC6-B887-8837088B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D8EC1-7838-4290-9C77-E57E596B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398F4-B39B-4589-90F6-98ED3019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EEE21-B4F5-4539-A781-EB1400A3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FBBC5-E72D-4646-9612-A418A129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00C19-8D85-4706-B292-7855452B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29B6F-0CF9-4B01-94BB-A130F5BF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90C44-17B8-40E1-9730-A71855CA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4BE-50AB-4F17-961F-5A616548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3CD-6DE2-48D9-AE1E-8269ACD3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F8C-F66D-43DD-836E-A8E4C796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2891-7CDD-438B-962A-02275784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DE6-F297-4CC4-B6C1-E2ADBF89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9503-23C9-4080-8DE6-4E3378901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218960"/>
            <a:ext cx="4876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05E3-E29F-4F9C-92FF-C9BE012AE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20DD-797F-4103-AB42-729AB2A38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8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8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B1D6-4BA8-4463-B0DA-45FCB5009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image" Target="../media/image8.pct"/><Relationship Id="rId7" Type="http://schemas.openxmlformats.org/officeDocument/2006/relationships/image" Target="../media/image9.pct"/><Relationship Id="rId8" Type="http://schemas.openxmlformats.org/officeDocument/2006/relationships/image" Target="../media/image10.pct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edge-sample.wikispaces.com/Beethoven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1218960"/>
            <a:ext cx="4876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thoven Roc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09120" y="3123720"/>
            <a:ext cx="4876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sical Ad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280" y="533412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3840" y="4495680"/>
            <a:ext cx="301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in L. P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versity Of Phoenix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Computers in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P 5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AVE AS “BEETHOVEN” IN YOUR GARAGEBAND FIL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775320" cy="2573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“CREATE”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74800" y="2124000"/>
            <a:ext cx="3792600" cy="2608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98400" y="958680"/>
            <a:ext cx="7747200" cy="494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54040" y="1173240"/>
            <a:ext cx="8034480" cy="45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203880" cy="27529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747360" y="428760"/>
            <a:ext cx="83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turns your computer keyboard into a musical keybo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464832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RE IS THE NOTES FOR BEETHOVEN”S FIF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5562720"/>
            <a:ext cx="8076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GGE    FFF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4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49467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79200" y="779400"/>
            <a:ext cx="8985600" cy="529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07880" y="685800"/>
            <a:ext cx="8431200" cy="5013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686800" cy="5441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47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467480" cy="634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248520" y="5029200"/>
            <a:ext cx="1535040" cy="9478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971800" y="4038480"/>
            <a:ext cx="1270080" cy="16257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1752480" y="2666880"/>
            <a:ext cx="1536840" cy="16257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6172200" y="2590920"/>
            <a:ext cx="1308240" cy="16254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4876920" y="3809880"/>
            <a:ext cx="1625400" cy="15494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5105520" y="1371600"/>
            <a:ext cx="1231920" cy="1625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762120" y="4191120"/>
            <a:ext cx="1625400" cy="14475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8"/>
          <a:stretch/>
        </p:blipFill>
        <p:spPr>
          <a:xfrm>
            <a:off x="3809880" y="2590920"/>
            <a:ext cx="1625760" cy="15112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914400" y="91440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sic should strike fire from the heart of man, and bring tears from the eyes of woma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2133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SvtyTwo ITC TT-BookIta"/>
                <a:ea typeface="ＭＳ Ｐゴシック"/>
              </a:rPr>
              <a:t>Ludwig Van Beetho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6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6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OOP BROWSE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553080" cy="409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6705720" cy="565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4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10640" cy="590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6781680" cy="575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533520" y="685800"/>
            <a:ext cx="685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add as many loops as you would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98108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X and have some fun creat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623960" y="3105000"/>
            <a:ext cx="5892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Ludwig Van Beethoven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5638680" y="4343400"/>
            <a:ext cx="1625760" cy="203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ifth of Beetho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4111560"/>
            <a:ext cx="7772400" cy="1984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lick the above picture to watch a theatrical version of Beethoven’s Fifth Sympho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49840" y="1981080"/>
            <a:ext cx="1444320" cy="19843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</p:pic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h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66880" y="195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24382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How many notes are there in the beginning musical moti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19320" y="35812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How many pitches are there in the beginning musical moti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19320" y="480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Can you use the keyboard to determine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tches h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6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6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6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6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6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6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6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 C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6705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reate a video essay 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eethove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a midi instrument to record the four note motif that is used in Beethoven’s Fifth Symph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lete a 16 measure accompaniment for the four note motif of Beethoven’s Fifth Symph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1000"/>
                            </p:stCondLst>
                            <p:childTnLst>
                              <p:par>
                                <p:cTn id="19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8000"/>
                            </p:stCondLst>
                            <p:childTnLst>
                              <p:par>
                                <p:cTn id="1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5000"/>
                            </p:stCondLst>
                            <p:childTnLst>
                              <p:par>
                                <p:cTn id="2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Let’s create a piece of music in honor of Mr.. Beethov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2590920" y="1600200"/>
            <a:ext cx="4029120" cy="3821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ARAGE BAND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238880" cy="281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ARAGE BAND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7467840" cy="8305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29680" y="1855800"/>
            <a:ext cx="885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ON THE PICTURE OF THE GUITAR TO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RAGE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LECT “CREATE NEW MUSIC PROJECT.”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370480" cy="385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5:06:20Z</dcterms:created>
  <dc:creator>eclipse</dc:creator>
  <dc:description/>
  <dc:language>en-US</dc:language>
  <cp:lastModifiedBy>Robin Phares User</cp:lastModifiedBy>
  <dcterms:modified xsi:type="dcterms:W3CDTF">2008-05-29T21:01:41Z</dcterms:modified>
  <cp:revision>7</cp:revision>
  <dc:subject/>
  <dc:title>Big Beethoven</dc:title>
</cp:coreProperties>
</file>